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9DD-873A-4CE7-9A8E-27FB4C58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A36-2CB0-4C7A-B3C0-03CD05A8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685-96DA-4A0C-84EA-CBF6BE3B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D6E-3FEB-4FB1-B153-98B4FF67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0AB3-AC84-486C-AB91-77CF7AFD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240F-339C-448A-849D-D0D61E0C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68CA-AA57-4D16-A866-7478573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1C27-64DE-4F1D-92BA-C6E5060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ED62-C12B-4401-8F42-939129C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DA0E-C5E2-4DF9-B23C-7CFD3066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543F-FEBD-470E-AD8F-FFEA7F2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8ED-C85B-45C9-87A8-47E471D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964-A1B8-495E-B537-81A4A56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5523-D71A-47A0-B6C3-E22B51C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900-E7F4-4E4E-A15D-F5A7F08A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EB1C-29C8-44C0-ACDC-CC6B3BBB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419-25EB-4BB9-B8A9-A5834187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B49B-0662-4EC5-8A0F-E33AB6D1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7505-D222-4469-9C23-CBAEE3A2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C756B-2C6A-4BA9-AD67-0125A1D2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4F0E-40D8-4257-975A-AFFC4A10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1907-5342-483C-81F2-1EE8E3E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7D1-4860-4520-BEEC-DB25BED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051B-70A7-473F-B49D-00B11A26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0090-AE33-486C-88EF-2FCD68E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CC9E-0D36-4241-8BBD-86EF164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E4DC-6DA8-4BA8-A6E7-26A090F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635A-3108-48E4-AFD1-CAB61BD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F7E2-4FDA-4D0F-B33B-A5A27EFE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741C-9FC7-471D-BFFA-AF9F4BB2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E13B-B406-46B8-9C29-3D5A075C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53A4-6D36-4CFB-BE89-96C85E69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4C07-A9E6-428A-9605-2079FE5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91F-7FF9-4224-A86A-9535F6B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E247-4697-4B04-8E09-E07FBB4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B228-E745-40F5-ABFC-33F240C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14BB-FDC2-4B27-8235-96AD245D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ED4E-5161-4E69-932D-FF4C624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B07A-1897-45C6-AB7F-FAFFAF7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708C8-B736-47F6-9A2A-0CC3B90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57B6-7792-4550-B1EC-8D953416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043E-6A7C-4F09-B57A-AE094893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31DF-2C1F-48BC-ACF7-58B1F26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5768-D1FE-4183-9B2A-EC50F7C0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88C-03B6-4C0C-9821-63967F3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F6AF1-F339-4A95-B12D-9045F67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7FB68-D364-4101-A49E-3A9EECD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0187-394C-45E1-BF87-EAC29D6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F87FB-F154-4514-AC7D-57939C0E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CBEE-A483-453A-869A-5C79957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D03C0-5146-4A2A-A2C8-8D8295A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FCC2-923E-4CC2-93D1-464E4B9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8A476-D073-4200-8309-3551E62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5D905-ECC8-423B-B583-6F1CBB1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84C7-DE89-4410-8893-7B6FA32F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D82-9204-429F-9C0D-6E0BFD7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EA7B-3D74-44CE-AB2A-88BB7904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E1541-3CDD-4AEA-AF35-73E4A410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7CA6-7694-4EA1-B0E1-38F3427D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7F4C-66F8-46C0-A683-43747FD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B72CB-62E4-4825-B58B-7BA4393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7E3A3-BF10-491C-AA7F-E060219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93A0-2E98-4749-9A0C-EA94752F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BC06-524F-4FB4-A584-7B63702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56C0-5847-4983-9917-0B05CEF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F6B53-25EC-4F68-8107-371C43D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3ED-4379-4D6F-8ABE-A090DD51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8EA46-6F82-4869-A09D-0DB8A6EC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EC80-53CC-48DA-AEBE-09BFB337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6E8E-18C8-4953-8A8B-ECC92291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291A7-DD0D-4F7C-993F-4D103CB5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D821-48F3-4508-8895-5AC31C5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D893-1452-458A-8867-770BD99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C0742-8CDE-4F1F-8048-A30AC86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40526-CB43-4299-B4DD-77C89B00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18FA-E6AF-4845-92BB-CB94751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7ECB-7462-4BF1-9BF8-C887138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95D-19D1-440A-9E7D-2FA89D2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01232-FCF8-427C-A377-FD3CDF1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7D0E-1F52-4F32-A673-855F44D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F2A78-AF07-42D1-8D17-7E71EE4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9245-83EC-4AF0-AA1D-7B5B6567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F2F41-20DF-4283-AD8F-4B8C7D07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0B6-DD4F-48C8-8C19-6CDA4C5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A96-59AD-4DDC-9588-D7B391DF3BD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465-2644-4138-A1A2-3FDBB0241B9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622-D5DC-40C3-9FF8-615421BFC71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D034-3E65-45A6-AC53-C388B640F1D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84FB-B9F1-4522-819F-510CEAE427E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C94D-7DC7-45E0-A463-EDADBF6C5B6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101-D41A-44CE-9E0A-E2F5DD5E12A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Users\VIK\Desktop\КАРТИНКИ К КОМПОЗИЦИИ\img.jpg"/>
          <p:cNvPicPr/>
          <p:nvPr/>
        </p:nvPicPr>
        <p:blipFill>
          <a:blip r:embed="rId1"/>
          <a:stretch/>
        </p:blipFill>
        <p:spPr>
          <a:xfrm>
            <a:off x="142920" y="857160"/>
            <a:ext cx="2714760" cy="5257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"/>
          <p:cNvSpPr/>
          <p:nvPr/>
        </p:nvSpPr>
        <p:spPr>
          <a:xfrm>
            <a:off x="3143160" y="1500120"/>
            <a:ext cx="5572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rbel"/>
              </a:rPr>
              <a:t>Отечества достойные сы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Users\VIK\Desktop\КАРТИНКИ К КОМПОЗИЦИИ\Александр Иванович Кутайсов.jpg"/>
          <p:cNvPicPr/>
          <p:nvPr/>
        </p:nvPicPr>
        <p:blipFill>
          <a:blip r:embed="rId1"/>
          <a:stretch/>
        </p:blipFill>
        <p:spPr>
          <a:xfrm>
            <a:off x="214200" y="571680"/>
            <a:ext cx="4991040" cy="57052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5643720" y="2214720"/>
            <a:ext cx="257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Александр Иванович Кутай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Users\VIK\Desktop\КАРТИНКИ К КОМПОЗИЦИИ\Андрей Сергеевич Кайсаров.jpg"/>
          <p:cNvPicPr/>
          <p:nvPr/>
        </p:nvPicPr>
        <p:blipFill>
          <a:blip r:embed="rId1"/>
          <a:stretch/>
        </p:blipFill>
        <p:spPr>
          <a:xfrm>
            <a:off x="142920" y="285840"/>
            <a:ext cx="4292640" cy="60008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"/>
          <p:cNvSpPr/>
          <p:nvPr/>
        </p:nvSpPr>
        <p:spPr>
          <a:xfrm>
            <a:off x="5072040" y="22860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Андрей Сергеевич Кайса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C:\Users\VIK\Desktop\КАРТИНКИ К КОМПОЗИЦИИ\g_tuchkovy.jpg"/>
          <p:cNvPicPr/>
          <p:nvPr/>
        </p:nvPicPr>
        <p:blipFill>
          <a:blip r:embed="rId1"/>
          <a:stretch/>
        </p:blipFill>
        <p:spPr>
          <a:xfrm>
            <a:off x="2071800" y="520560"/>
            <a:ext cx="5000400" cy="5816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571680" y="28576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енерал-лейтенан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Сергей Алексеевич  Тучков-втор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C:\Users\VIK\Desktop\КАРТИНКИ К КОМПОЗИЦИИ\сергей тучков.jpg"/>
          <p:cNvPicPr/>
          <p:nvPr/>
        </p:nvPicPr>
        <p:blipFill>
          <a:blip r:embed="rId1"/>
          <a:stretch/>
        </p:blipFill>
        <p:spPr>
          <a:xfrm>
            <a:off x="4643280" y="1428840"/>
            <a:ext cx="4305600" cy="5292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VIK\Desktop\КАРТИНКИ К КОМПОЗИЦИИ\павел тучков3.jpg"/>
          <p:cNvPicPr/>
          <p:nvPr/>
        </p:nvPicPr>
        <p:blipFill>
          <a:blip r:embed="rId1"/>
          <a:stretch/>
        </p:blipFill>
        <p:spPr>
          <a:xfrm>
            <a:off x="214200" y="17859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"/>
          <p:cNvSpPr/>
          <p:nvPr/>
        </p:nvSpPr>
        <p:spPr>
          <a:xfrm>
            <a:off x="4714920" y="2500200"/>
            <a:ext cx="350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енерал-майор Павел Алексе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чков-трет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42920" y="3429000"/>
            <a:ext cx="378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енерал-лейтенант Николай Алексеевич Тучков-пер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C:\Users\VIK\Desktop\КАРТИНКИ К КОМПОЗИЦИИ\николай тучков1.jpg"/>
          <p:cNvPicPr/>
          <p:nvPr/>
        </p:nvPicPr>
        <p:blipFill>
          <a:blip r:embed="rId1"/>
          <a:stretch/>
        </p:blipFill>
        <p:spPr>
          <a:xfrm>
            <a:off x="4786200" y="2214720"/>
            <a:ext cx="4051440" cy="4444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Users\VIK\Desktop\КАРТИНКИ К КОМПОЗИЦИИ\тучков сергей2.jpg"/>
          <p:cNvPicPr/>
          <p:nvPr/>
        </p:nvPicPr>
        <p:blipFill>
          <a:blip r:embed="rId1"/>
          <a:stretch/>
        </p:blipFill>
        <p:spPr>
          <a:xfrm>
            <a:off x="4941720" y="1643040"/>
            <a:ext cx="4015080" cy="4916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VIK\Desktop\КАРТИНКИ К КОМПОЗИЦИИ\маргарита.jpg"/>
          <p:cNvPicPr/>
          <p:nvPr/>
        </p:nvPicPr>
        <p:blipFill>
          <a:blip r:embed="rId2"/>
          <a:stretch/>
        </p:blipFill>
        <p:spPr>
          <a:xfrm>
            <a:off x="428760" y="285840"/>
            <a:ext cx="3517920" cy="4143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"/>
          <p:cNvSpPr/>
          <p:nvPr/>
        </p:nvSpPr>
        <p:spPr>
          <a:xfrm>
            <a:off x="0" y="4643280"/>
            <a:ext cx="48578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Маргарита Михайловна и Александр Алексеевич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Тучков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  <p:pic>
        <p:nvPicPr>
          <p:cNvPr id="413" name="Кристоф Виллибальд Глюк - Мелодия из оперы  Орфей и Эвридика  (скрипка и орган).mp3" descr=""/>
          <p:cNvPicPr/>
          <p:nvPr/>
        </p:nvPicPr>
        <p:blipFill>
          <a:blip r:embed="rId4"/>
          <a:stretch/>
        </p:blipFill>
        <p:spPr>
          <a:xfrm>
            <a:off x="642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VIK\Desktop\КАРТИНКИ К КОМПОЗИЦИИ\1b349bb6ec20.jpg"/>
          <p:cNvPicPr/>
          <p:nvPr/>
        </p:nvPicPr>
        <p:blipFill>
          <a:blip r:embed="rId1"/>
          <a:stretch/>
        </p:blipFill>
        <p:spPr>
          <a:xfrm>
            <a:off x="571680" y="66600"/>
            <a:ext cx="7929360" cy="6666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Users\VIK\Desktop\КАРТИНКИ К КОМПОЗИЦИИ\tu1(1).jpg"/>
          <p:cNvPicPr/>
          <p:nvPr/>
        </p:nvPicPr>
        <p:blipFill>
          <a:blip r:embed="rId1"/>
          <a:stretch/>
        </p:blipFill>
        <p:spPr>
          <a:xfrm>
            <a:off x="0" y="571680"/>
            <a:ext cx="9150480" cy="5854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Users\VIK\Desktop\КАРТИНКИ К КОМПОЗИЦИИ\храм тучковой.jpg"/>
          <p:cNvPicPr/>
          <p:nvPr/>
        </p:nvPicPr>
        <p:blipFill>
          <a:blip r:embed="rId1"/>
          <a:srcRect l="0" t="0" r="0" b="5130"/>
          <a:stretch/>
        </p:blipFill>
        <p:spPr>
          <a:xfrm>
            <a:off x="142920" y="142920"/>
            <a:ext cx="3905280" cy="528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Users\VIK\Desktop\КАРТИНКИ К КОМПОЗИЦИИ\игуменья тучкова.jpg"/>
          <p:cNvPicPr/>
          <p:nvPr/>
        </p:nvPicPr>
        <p:blipFill>
          <a:blip r:embed="rId2"/>
          <a:stretch/>
        </p:blipFill>
        <p:spPr>
          <a:xfrm>
            <a:off x="5346720" y="1500120"/>
            <a:ext cx="3602160" cy="5072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Users\VIK\Desktop\КАРТИНКИ К КОМПОЗИЦИИ\giorg_lenta_2.png"/>
          <p:cNvPicPr/>
          <p:nvPr/>
        </p:nvPicPr>
        <p:blipFill>
          <a:blip r:embed="rId1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143160" y="2636280"/>
            <a:ext cx="5500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торик,  исполни  последнюю волю героев бывших, и тогда История твоя родит героев времен  будущ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Федор Николаевич Гл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С. В. Рахманинов - Концерт№2 для форт. с оркестром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C:\Users\VIK\Desktop\КАРТИНКИ К КОМПОЗИЦИИ\icona.jpg"/>
          <p:cNvPicPr/>
          <p:nvPr/>
        </p:nvPicPr>
        <p:blipFill>
          <a:blip r:embed="rId1"/>
          <a:stretch/>
        </p:blipFill>
        <p:spPr>
          <a:xfrm>
            <a:off x="4357800" y="357120"/>
            <a:ext cx="4640040" cy="62866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2"/>
          <p:cNvSpPr/>
          <p:nvPr/>
        </p:nvSpPr>
        <p:spPr>
          <a:xfrm>
            <a:off x="571680" y="642960"/>
            <a:ext cx="3500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rbel"/>
              </a:rPr>
              <a:t>Господи, дозволь мне сохранить память того, кого я любила, с кем в неизреченные минуты Твоей милости Ты соединил меня через таинство брака... Я с ним увижусь - увижусь там, где нет ни смерти, ни разлуки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3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3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3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C:\Users\VIK\Desktop\КАРТИНКИ К КОМПОЗИЦИИ\0de835a960d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VIK\Desktop\КАРТИНКИ К КОМПОЗИЦИИ\ver08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215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3" descr=""/>
          <p:cNvPicPr/>
          <p:nvPr/>
        </p:nvPicPr>
        <p:blipFill>
          <a:blip r:embed="rId1"/>
          <a:stretch/>
        </p:blipFill>
        <p:spPr>
          <a:xfrm>
            <a:off x="743040" y="4248000"/>
            <a:ext cx="835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VIK\Desktop\КАРТИНКИ К КОМПОЗИЦИИ\56d73536a7f8.jpg"/>
          <p:cNvPicPr/>
          <p:nvPr/>
        </p:nvPicPr>
        <p:blipFill>
          <a:blip r:embed="rId2"/>
          <a:stretch/>
        </p:blipFill>
        <p:spPr>
          <a:xfrm>
            <a:off x="1643040" y="357120"/>
            <a:ext cx="6095880" cy="3429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VIK\Desktop\КАРТИНКИ К КОМПОЗИЦИИ\280.jpg"/>
          <p:cNvPicPr/>
          <p:nvPr/>
        </p:nvPicPr>
        <p:blipFill>
          <a:blip r:embed="rId1"/>
          <a:stretch/>
        </p:blipFill>
        <p:spPr>
          <a:xfrm>
            <a:off x="214200" y="14292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VIK\Desktop\КАРТИНКИ К КОМПОЗИЦИИ\7wta_aleksey_cirikov_1.jpg"/>
          <p:cNvPicPr/>
          <p:nvPr/>
        </p:nvPicPr>
        <p:blipFill>
          <a:blip r:embed="rId2"/>
          <a:stretch/>
        </p:blipFill>
        <p:spPr>
          <a:xfrm>
            <a:off x="5268960" y="2000160"/>
            <a:ext cx="3679920" cy="4624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C:\Users\VIK\Desktop\КАРТИНКИ К КОМПОЗИЦИИ\borodino.jpg"/>
          <p:cNvPicPr/>
          <p:nvPr/>
        </p:nvPicPr>
        <p:blipFill>
          <a:blip r:embed="rId1"/>
          <a:stretch/>
        </p:blipFill>
        <p:spPr>
          <a:xfrm>
            <a:off x="4361040" y="2071800"/>
            <a:ext cx="4687560" cy="4672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C:\Users\VIK\Desktop\КАРТИНКИ К КОМПОЗИЦИИ\001ff94944a2.jpg"/>
          <p:cNvPicPr/>
          <p:nvPr/>
        </p:nvPicPr>
        <p:blipFill>
          <a:blip r:embed="rId2"/>
          <a:stretch/>
        </p:blipFill>
        <p:spPr>
          <a:xfrm>
            <a:off x="285840" y="214200"/>
            <a:ext cx="4686120" cy="3429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Users\VIK\Desktop\КАРТИНКИ К КОМПОЗИЦИИ\Raevsky_saltanovka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VIK\Desktop\КАРТИНКИ К КОМПОЗИЦИИ\муравьев-апостол.jpg"/>
          <p:cNvPicPr/>
          <p:nvPr/>
        </p:nvPicPr>
        <p:blipFill>
          <a:blip r:embed="rId1"/>
          <a:stretch/>
        </p:blipFill>
        <p:spPr>
          <a:xfrm>
            <a:off x="428760" y="785880"/>
            <a:ext cx="4190760" cy="5238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4929120" y="2000160"/>
            <a:ext cx="378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атвей Иванови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уравьёв-Апост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  <p:pic>
        <p:nvPicPr>
          <p:cNvPr id="391" name="Эдуард Артемьев - музыка из к-ф -Свой среди чужих, чужой среди своих-.mp3" descr=""/>
          <p:cNvPicPr/>
          <p:nvPr/>
        </p:nvPicPr>
        <p:blipFill>
          <a:blip r:embed="rId3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9:16:59Z</dcterms:created>
  <dc:creator>VIK</dc:creator>
  <dc:description/>
  <dc:language>en-US</dc:language>
  <cp:lastModifiedBy>VIK</cp:lastModifiedBy>
  <dcterms:modified xsi:type="dcterms:W3CDTF">2012-01-27T16:37:35Z</dcterms:modified>
  <cp:revision>21</cp:revision>
  <dc:subject/>
  <dc:title>Слайд 1</dc:title>
</cp:coreProperties>
</file>